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EE6-16CD-4CEA-A9B5-F19FA751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C49-3105-48BE-AA44-993F0A4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4B-AF63-43AB-9B49-D662E926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D0F-CD9D-4CD2-9D55-E6C71297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B19-4986-4731-BC28-5FFBB2C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210-C607-4CFF-8F8D-D91E7675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767-0624-4E5D-B763-207426D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125-8136-49D7-85BD-BC459812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AE7-08D5-4C4C-9AE5-D86D295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D5B-EF11-41D8-864E-5D451858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703-7488-4E72-BE1F-A8B73A83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67D-FCE6-4C87-B9A8-0D75B17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A44-46E9-4F7F-B850-E1D421242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920606cRVWn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1440"/>
            <a:ext cx="8915400" cy="11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حلوة السّم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شو بحبّ السم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 بدّي أوصلا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تلاقى بِألله  وعيش بِحما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شبّه يا ابني بالمسيح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 إيمانك أوعى تز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حياتو لْصَلّى صحيـ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ابني احفظ الوصاي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جنّب فعل الخطاي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فّي كل النوايــ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الأسرا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إيمانــك لا تحتـا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ْْرا إنجيلك باسـتمرا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جماعـ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زرع الكلمة بشجـ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خْدوم الأخوة بوداعـ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53:37Z</dcterms:modified>
  <cp:revision>10</cp:revision>
  <dc:subject/>
  <dc:title>PowerPoint Presentation</dc:title>
</cp:coreProperties>
</file>